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219-E529-4B3B-BD7E-AA7E3CD19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A6A-4272-42C2-9795-82E077B1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B45-2394-4657-86FE-659F7FE2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0697-5DF9-46A0-941E-FE380253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360-D389-4A85-AD5A-5913ECB3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E12A-AFD8-4444-89BF-9F41581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4324-39F5-4EA5-A5D7-FBD851C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E564-CDA5-487F-BBA5-A214E942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BE1-961C-4AEB-9E8C-0499B3D7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F104-2606-4BA4-B779-677365CB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8D34-2CFA-4163-8D3F-5F4BDD9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37F3-B4DB-4723-9348-70D7B3B2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07BE-7A56-4F6A-90D3-968C34B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9FB-02EA-4841-ABAD-6BE11D1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8500-474A-4DAE-B4AF-A1F82A76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109B-765E-4938-811D-BAAD769D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6940-CC32-4BF1-8A67-365E9A7F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710-5516-4FAC-8ABC-A0AE3F8C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2AC-6C9A-4DE2-BCF5-8E6882DF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402-40C4-47A5-BE25-266224C0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886-4378-4E65-985A-01A5A647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307-E395-4287-98A0-A60C894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024-2119-4544-98F9-901FD0B8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B30-B864-427E-9BF0-9C22F89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A51-38FB-4193-ACA8-19F88739639F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22B5-F286-4882-AF92-56D0CCAC364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cia.gov/library/publications/the-world-factbook/" TargetMode="External"/><Relationship Id="rId3" Type="http://schemas.openxmlformats.org/officeDocument/2006/relationships/hyperlink" Target="http://online.culturegrams.com/" TargetMode="External"/><Relationship Id="rId4" Type="http://schemas.openxmlformats.org/officeDocument/2006/relationships/hyperlink" Target="http://www.ancientcivilizations.co.uk/home_set.html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t 6:  Southwest and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he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nd Hum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 the countr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opulous: 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:  Kazakh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lthiest:  United Arab Emi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inks:  trade and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dle of civ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theism: Judaism (Abraham), Christianity (Jesus), Islam (Muhamm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rah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854360"/>
            <a:ext cx="64641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es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14600" y="1143000"/>
            <a:ext cx="4390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hamm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15456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 Pop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ensity (Istanbul, Karach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rural, % 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religion:  Islam (Sunni, Sh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rachi, Pakist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9198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an Geography: Economic 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 (abundance of . . 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(scarcity of . . 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adic he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f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and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5665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ks to More Information about SW and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s://www.cia.gov/library/publications/the-world-factboo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3"/>
              </a:rPr>
              <a:t>http://online.culturegram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4"/>
              </a:rPr>
              <a:t>http://www.ancientcivilizations.co.uk/home_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Features:  SW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nsulas:  Arab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aus:  Anato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y chimney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:  Arabian, Mediterranean, Black, Red, Dead, Casp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ris-Euphrates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iry Chimne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62071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Features: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:  Aral, Caspian, Ar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 K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2 (Mt. Godwin Aus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008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al Sea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8176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:  SW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terran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: 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a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getation:  SW &amp; Central As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rt scr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21:26:21Z</dcterms:created>
  <dc:creator>Educational Technology</dc:creator>
  <dc:description/>
  <dc:language>en-US</dc:language>
  <cp:lastModifiedBy>Educational Technology</cp:lastModifiedBy>
  <dcterms:modified xsi:type="dcterms:W3CDTF">2009-03-31T01:20:27Z</dcterms:modified>
  <cp:revision>14</cp:revision>
  <dc:subject/>
  <dc:title>Unit 6:  Southwest and Central Asia</dc:title>
</cp:coreProperties>
</file>